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5646E-8CB7-4ECC-9D1D-ADA8EA2F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4B1F-CBAC-4AB9-92A2-CF18987B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228B-94C2-4504-A0A4-934084BE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4E23-A01A-42FE-8FB5-940DD6E9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698B-9E11-470E-9A98-5909E5BB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D297-3654-4F60-8EA5-1F3583AB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447B-9965-4C80-8AF5-A2AD4550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2A67-E9C3-4D39-B939-70205B6D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1C92-2305-4669-A0B3-D63DED0B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0A7D-778B-4396-9E56-6735D0E6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8FDB-85D2-4B24-94F0-6539C6D9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DD7E-EA48-4474-8A1E-AE3B5B33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6265-EA25-480A-8C80-7EC7B513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A94D-23F8-42F9-996E-60B8D47B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AAF5-4135-46DF-96B5-D303FB3F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29FF-36C5-4767-BD50-CBBDEEF1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85CF-2FE9-4EE4-A336-EFAF84B4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BD453-43EE-4B5D-BC78-0FCCC433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38EE-AB23-47DC-8AE1-0638A981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B3111-BE00-46D1-83FE-F898A22D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2998-FF7B-4D9E-9A26-B694FEE5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B1352-F6E8-4532-AA3C-84DEA2D8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F2DDB-9750-43BF-B5E6-2FFF79D6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AC797-B2C7-431B-ADBA-F48A6C5E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F2DA-A95F-441D-AFBD-F191EBB9407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CC28-8B18-47DC-82A9-1487F7DE36F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32400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4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960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Вярвай просто всеки д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й ще бъдеш ти спас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ярвай и върви напред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ко и враг да срещаш вред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е мой, в Теб вярвам аз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душа ми Ти Си Сп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когато дойдеш Т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вяра в Тебе ме креп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2418480"/>
            <a:ext cx="96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Ти ела, във мен живе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я Дух в сърце ми вле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о зло махни от т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доброто дай ми плам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е мой, в Теб вярвам аз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душа ми Ти Си Сп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когато дойдеш Т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вяра в Тебе ме креп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36360" y="243612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Радостно пътувам аз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дружен от моя Сп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е, в път за родний кра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яра крепка Ти ми да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е мой, в Теб вярвам аз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душа ми Ти Си Сп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когато дойдеш Т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вяра в Тебе ме креп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6-10T16:57:48Z</dcterms:modified>
  <cp:revision>79</cp:revision>
  <dc:subject/>
  <dc:title>Slide 1</dc:title>
</cp:coreProperties>
</file>